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3360" cy="308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4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106793-0E9D-4CFA-A15A-BB9816C8760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0B7F32-CF91-4198-8081-5FFB4FD8C76C}" type="slidenum">
              <a:rPr b="0" lang="ru-RU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9408F3-654F-4690-8D84-9977BC939D03}" type="slidenum">
              <a:rPr b="0" lang="ru-RU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A28A7-5101-4C6D-A086-3C9C3E48E5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6450-3E00-4A3B-80BA-584FB89F5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A5687-F95E-43F2-92E7-5480C8F42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1322-FAAD-4996-8373-B214AFDCD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BBCA2-02FF-4C16-A52E-1E1ED45C55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315D5-3151-4680-B2F9-2F869217F1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FFC28-E749-4523-8615-11A6B6FDD9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C0A26-FE5C-466C-848D-84F70295A6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2BFE0-6EBC-493A-8141-AF5EE5908B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DB7CA-0554-4102-9CB5-3A8B0D8612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40018-5630-4183-9BB8-2DA930089D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A458-1B25-43A6-843D-87E5B8508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D941E-DE4E-4B12-ACDD-75657B2380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181EE-A179-47B7-9151-D13AF40A55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2DC16-9800-401F-8E0A-E0FE5C194C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C163F-A7C5-4B05-94B9-AE9A26F047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E9A43-179E-4ADE-8E40-375CD77F1E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CB9DA-6D8A-4CC5-A4DF-50779B323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EBF7A-D2B2-4C87-8B50-7E86D4D6F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F401C-78E8-412E-8B10-C7A49D66B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3597-FA79-425E-B814-E816B44A9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FF3C0-1D24-44F3-B85B-6CA3AAA58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9A018-8CED-454B-A7E2-211F87289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E5F55-2874-4620-A079-4A9B0B7C2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5360" cy="4875120"/>
            <a:chOff x="0" y="0"/>
            <a:chExt cx="8685360" cy="4875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8040" cy="4875120"/>
            </a:xfrm>
            <a:prstGeom prst="rect">
              <a:avLst/>
            </a:prstGeom>
            <a:solidFill>
              <a:srgbClr val="517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4480" cy="181080"/>
              <a:chOff x="380880" y="1417680"/>
              <a:chExt cx="8304480" cy="18108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7360" cy="181080"/>
              </a:xfrm>
              <a:prstGeom prst="rect">
                <a:avLst/>
              </a:prstGeom>
              <a:solidFill>
                <a:srgbClr val="a4a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4480" cy="0"/>
              </a:xfrm>
              <a:prstGeom prst="line">
                <a:avLst/>
              </a:prstGeom>
              <a:ln w="19080">
                <a:solidFill>
                  <a:srgbClr val="455b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944F25-3B44-44A4-BAEB-46C5C7602FBD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455b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1320" cy="5942160"/>
            <a:chOff x="0" y="0"/>
            <a:chExt cx="8761320" cy="59421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1040" cy="4875120"/>
            </a:xfrm>
            <a:prstGeom prst="rect">
              <a:avLst/>
            </a:prstGeom>
            <a:solidFill>
              <a:srgbClr val="517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1320" cy="2436840"/>
              <a:chOff x="0" y="3505320"/>
              <a:chExt cx="8761320" cy="243684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0600" cy="2436840"/>
              </a:xfrm>
              <a:prstGeom prst="rect">
                <a:avLst/>
              </a:prstGeom>
              <a:solidFill>
                <a:srgbClr val="455b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7120" cy="2136600"/>
              </a:xfrm>
              <a:prstGeom prst="rect">
                <a:avLst/>
              </a:prstGeom>
              <a:solidFill>
                <a:srgbClr val="79a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88920" cy="0"/>
              </a:xfrm>
              <a:prstGeom prst="line">
                <a:avLst/>
              </a:prstGeom>
              <a:ln w="50760">
                <a:solidFill>
                  <a:srgbClr val="455b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5520" cy="303120"/>
              <a:chOff x="635040" y="533520"/>
              <a:chExt cx="8075520" cy="3031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6840" cy="303120"/>
              </a:xfrm>
              <a:prstGeom prst="rect">
                <a:avLst/>
              </a:prstGeom>
              <a:solidFill>
                <a:srgbClr val="a4a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5520" cy="0"/>
              </a:xfrm>
              <a:prstGeom prst="line">
                <a:avLst/>
              </a:prstGeom>
              <a:ln w="44280">
                <a:solidFill>
                  <a:srgbClr val="455b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296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2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ffffcc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B4AEB0-A8F9-4F87-BE9E-CD2385202E76}" type="slidenum">
              <a:rPr b="0" lang="ru-RU" sz="1000" spc="-1" strike="noStrike">
                <a:solidFill>
                  <a:srgbClr val="ffffcc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14600" y="1219320"/>
            <a:ext cx="61722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Тема: Синтетичні й аналітичні рахунки їх взаємозв’язок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96252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e4eeea"/>
                </a:solidFill>
                <a:latin typeface="Arial"/>
              </a:rPr>
              <a:t>1.Поняття та значення синтетичних та аналітичних рахунків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e4eeea"/>
                </a:solidFill>
                <a:latin typeface="Arial"/>
              </a:rPr>
              <a:t>2.Оборотні відомості за рахунками синтетичного та аналітичного обліку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2476440" cy="1857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9040" y="1450800"/>
            <a:ext cx="7997760" cy="525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9480" y="33480"/>
            <a:ext cx="3219480" cy="1438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2560" y="244440"/>
            <a:ext cx="8315280" cy="662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Arial"/>
              </a:rPr>
              <a:t>Вертикальний розріз інформаційної системи бухгалтерського обліку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3581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3124080"/>
            <a:ext cx="1066680" cy="7621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"/>
              </a:rPr>
              <a:t>Б</a:t>
            </a:r>
            <a:r>
              <a:rPr b="0" lang="uk-UA" sz="9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38480" y="1981080"/>
            <a:ext cx="1143000" cy="9907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4343400"/>
            <a:ext cx="594000" cy="3049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"/>
              </a:rPr>
              <a:t>В</a:t>
            </a:r>
            <a:r>
              <a:rPr b="0" lang="uk-UA" sz="9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4343400"/>
            <a:ext cx="533520" cy="3049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"/>
              </a:rPr>
              <a:t>В</a:t>
            </a:r>
            <a:r>
              <a:rPr b="0" lang="uk-UA" sz="9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4343400"/>
            <a:ext cx="533160" cy="3049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"/>
              </a:rPr>
              <a:t>В</a:t>
            </a:r>
            <a:r>
              <a:rPr b="0" lang="uk-UA" sz="9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4120" y="3124080"/>
            <a:ext cx="1066680" cy="7621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"/>
              </a:rPr>
              <a:t>Б</a:t>
            </a:r>
            <a:r>
              <a:rPr b="0" lang="uk-UA" sz="9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4343400"/>
            <a:ext cx="593640" cy="3049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4343400"/>
            <a:ext cx="533520" cy="3049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4343400"/>
            <a:ext cx="533520" cy="3049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4952880"/>
            <a:ext cx="38124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4952880"/>
            <a:ext cx="38088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4952880"/>
            <a:ext cx="38088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4952880"/>
            <a:ext cx="38088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77120" y="4952880"/>
            <a:ext cx="38088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10280" y="4952880"/>
            <a:ext cx="38124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430080" y="2743200"/>
            <a:ext cx="685800" cy="5335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2743200"/>
            <a:ext cx="685800" cy="3808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135160" y="3733920"/>
            <a:ext cx="457200" cy="6094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886200"/>
            <a:ext cx="1440" cy="457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3733920"/>
            <a:ext cx="457200" cy="6094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030280" y="3733920"/>
            <a:ext cx="381240" cy="6094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3886200"/>
            <a:ext cx="1800" cy="457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3733920"/>
            <a:ext cx="533160" cy="6094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649400" y="4648320"/>
            <a:ext cx="152280" cy="3045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4648320"/>
            <a:ext cx="152280" cy="3045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640120" y="4648320"/>
            <a:ext cx="152280" cy="3045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630840" y="4648320"/>
            <a:ext cx="152640" cy="3045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19920" y="4648320"/>
            <a:ext cx="152280" cy="3045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4648320"/>
            <a:ext cx="152640" cy="3045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1981080"/>
            <a:ext cx="914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uk-UA" sz="1200" spc="-1" strike="noStrike">
                <a:solidFill>
                  <a:srgbClr val="ffffcc"/>
                </a:solidFill>
                <a:latin typeface="Arial"/>
              </a:rPr>
              <a:t> Рівень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ffffcc"/>
                </a:solidFill>
                <a:latin typeface="Arial"/>
              </a:rPr>
              <a:t>(порядок)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ffffcc"/>
                </a:solidFill>
                <a:latin typeface="Arial"/>
              </a:rPr>
              <a:t>2 Рівень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ffffcc"/>
                </a:solidFill>
                <a:latin typeface="Arial"/>
              </a:rPr>
              <a:t>(порядок)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3 </a:t>
            </a:r>
            <a:r>
              <a:rPr b="0" lang="uk-UA" sz="1200" spc="-1" strike="noStrike">
                <a:solidFill>
                  <a:srgbClr val="ffffcc"/>
                </a:solidFill>
                <a:latin typeface="Arial"/>
              </a:rPr>
              <a:t>Рівень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ffffcc"/>
                </a:solidFill>
                <a:latin typeface="Arial"/>
              </a:rPr>
              <a:t>(порядок)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2057400"/>
            <a:ext cx="1143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ffffcc"/>
                </a:solidFill>
                <a:latin typeface="Arial"/>
              </a:rPr>
              <a:t>Синтетичний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ffffcc"/>
                </a:solidFill>
                <a:latin typeface="Arial"/>
              </a:rPr>
              <a:t>рахунок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ffffcc"/>
                </a:solidFill>
                <a:latin typeface="Arial"/>
              </a:rPr>
              <a:t>Субрахунки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ffffcc"/>
                </a:solidFill>
                <a:latin typeface="Arial"/>
              </a:rPr>
              <a:t>Аналітичні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ffffcc"/>
                </a:solidFill>
                <a:latin typeface="Arial"/>
              </a:rPr>
              <a:t>рахунки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2286000"/>
            <a:ext cx="990720" cy="14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3352680"/>
            <a:ext cx="990360" cy="18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4419720"/>
            <a:ext cx="609480" cy="14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nodeType="clickEffect" fill="hold">
                      <p:stCondLst>
                        <p:cond delay="0"/>
                      </p:stCondLst>
                      <p:childTnLst>
                        <p:par>
                          <p:cTn id="2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55640" y="298440"/>
            <a:ext cx="7937640" cy="18590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907920" y="2212920"/>
            <a:ext cx="7785360" cy="3919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5640" y="993600"/>
            <a:ext cx="8242200" cy="5791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09480" y="0"/>
            <a:ext cx="294660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35200" y="139680"/>
            <a:ext cx="7827840" cy="1457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853920" y="1500120"/>
            <a:ext cx="7839360" cy="5132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07920" y="237960"/>
            <a:ext cx="7785360" cy="1457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07920" y="1603440"/>
            <a:ext cx="7901280" cy="49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07920" y="212760"/>
            <a:ext cx="7974000" cy="124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609480" y="1447920"/>
          <a:ext cx="8383320" cy="5397120"/>
        </p:xfrm>
        <a:graphic>
          <a:graphicData uri="http://schemas.openxmlformats.org/drawingml/2006/table">
            <a:tbl>
              <a:tblPr/>
              <a:tblGrid>
                <a:gridCol w="1681200"/>
                <a:gridCol w="1113120"/>
                <a:gridCol w="1113120"/>
                <a:gridCol w="1121040"/>
                <a:gridCol w="1120680"/>
                <a:gridCol w="1121040"/>
                <a:gridCol w="1113120"/>
              </a:tblGrid>
              <a:tr h="27792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Назва рахунків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Сальдо на 01.04.04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Оборот за місяць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Сальдо на 01.05.04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Дебет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Дебет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Дебет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Основні засоби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515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5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36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</a:tr>
              <a:tr h="4255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Виробничі запаси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6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11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12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5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</a:tr>
              <a:tr h="277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Виробництво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19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12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139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</a:tr>
              <a:tr h="277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Каса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1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4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4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1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</a:tr>
              <a:tr h="277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Рахунки в банку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19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12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7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</a:tr>
              <a:tr h="4255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Статутний капітал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12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55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175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</a:tr>
              <a:tr h="4640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Короткострокові позики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16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3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6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19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</a:tr>
              <a:tr h="4640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Розрахунки з оплати праці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45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4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5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</a:tr>
              <a:tr h="4640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Нерозподілені прибутки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255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55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20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</a:tr>
              <a:tr h="12085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Розрахунки з постачальниками</a:t>
                      </a:r>
                      <a:br>
                        <a:rPr sz="1200"/>
                      </a:b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і підрядниками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11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16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5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</a:tr>
              <a:tr h="277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58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58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555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555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62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62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84160" y="590400"/>
            <a:ext cx="803448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38360" y="530280"/>
            <a:ext cx="8259480" cy="6102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522760" y="853920"/>
            <a:ext cx="2633760" cy="206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07920" y="1596960"/>
            <a:ext cx="7785360" cy="4541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016680" y="5052960"/>
            <a:ext cx="2457360" cy="355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07920" y="536400"/>
            <a:ext cx="7986960" cy="6016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07920" y="384120"/>
            <a:ext cx="777888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07920" y="609480"/>
            <a:ext cx="8156880" cy="609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07920" y="201600"/>
            <a:ext cx="7882200" cy="1255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828720" y="1603440"/>
            <a:ext cx="7974000" cy="45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14400" y="225360"/>
            <a:ext cx="7772400" cy="592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14400" y="1584360"/>
            <a:ext cx="7772400" cy="512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6248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2952720" cy="15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689040"/>
            <a:ext cx="83329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14400" y="1596960"/>
            <a:ext cx="7772400" cy="4810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9480" y="4680"/>
            <a:ext cx="2390760" cy="15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029200" y="0"/>
            <a:ext cx="2247840" cy="1685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07920" y="1298520"/>
            <a:ext cx="7871040" cy="525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743200" y="14400"/>
            <a:ext cx="3503520" cy="1966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84160" y="1523880"/>
            <a:ext cx="78091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87480" y="274680"/>
            <a:ext cx="7785000" cy="1262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9040" y="1603440"/>
            <a:ext cx="83026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07:56:35Z</dcterms:created>
  <dc:creator>one</dc:creator>
  <dc:description/>
  <dc:language>en-US</dc:language>
  <cp:lastModifiedBy>one</cp:lastModifiedBy>
  <dcterms:modified xsi:type="dcterms:W3CDTF">2010-10-19T23:12:01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